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4B9E-F5A9-4122-9CBD-2C417A75A29F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s Páginas de nota são páginas impressas que apresentam as notas do autor debaixo do diapositiv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Este modo de visualização serve para acrescentar apontamentos sobre o conteúdo do Diapositivo. Para facilitar apresentação  ou lembrar informação a dizer á audiê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epois de criar a apresentação acrescente todas as notas que lhe sejam úteis a cada diapositivo, imprima as páginas de no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780F-6FBC-4A58-8A5B-BB7E9B95AF99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1FB-D38C-47CE-B3F7-67DAF041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900-AECB-4D8E-A592-759D7B69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341-54A1-4BD1-AD8F-93A7B4D7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709-94B4-4F68-92F1-0E5984A7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7D2-3417-4F58-95CA-60E81866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F4AD-35C4-4ECC-AD75-05509C79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E62-36D0-405F-B549-12A3EECE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140-6A22-4736-B754-ADE2C63A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B8B5-28D9-48E4-8AF7-2781F391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203-E9A6-444E-A771-4FC0DC8F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3DC-E37A-4304-B12A-263D22A2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323-9A06-4034-BD7E-01B0205E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D800-6303-4933-BB8E-1865D6E5D056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MegaExpansão - Técnico Informático de Sistem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85880" y="31428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898989"/>
                </a:solidFill>
                <a:latin typeface="Calibri"/>
              </a:rPr>
              <a:t>Utilitário Gráfico: Microsof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17375e"/>
              </a:buClr>
              <a:buFont typeface="Century Gothic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O que é o PowerPoint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presentador gráfico, que permite fazer apresentações multimédia no computad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presentação de diapositivos ( Slide Sh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Forma atractiva de comunic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nimação de textos e objec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O que podemos fazer com o PowerPoint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apresentações dinâmicas em ecrã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transparências para project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diagramas poderosos e dinâmic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Imprimir em papel as apresentações gráfica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Usar temas personalizados para montar apresentações mais rapidame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Imprimir em papel as apresentaçõ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Criar apresentação compactada em C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Apresentar um trabalho de modo  atraente e cativante ao públ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Criação de uma Apresentação a partir de um tema pré-definid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28800" y="3787920"/>
            <a:ext cx="7772400" cy="30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scolher a estrutura de 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Definir o esquema do 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diaposi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dicionar diaposi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ntroduzir o 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tex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Formatar t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Objectivos de uma Apresenta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400" y="2642760"/>
            <a:ext cx="7772400" cy="37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dentificar o Assunto da 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Definir os objectivos desse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Resumir as ideias-c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lanificar o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Desenvolver o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oncluir e resumir o Assu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Regras para elaborar a apresentaç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Os textos apresentados não devem ser lidos pelo apresentad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Ilustrar apresent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Usar linguagem simples e objec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Apresentar dados que fundamentam a apresenta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Manter unidade gráfic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Não apresentar demasiados sli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Não usar a animação só para obter a atençã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Normas para composição equilibrada do diapositi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4400" y="2143080"/>
            <a:ext cx="7772400" cy="42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Não deve apresentar ,muitas imagens, tabelas ou </a:t>
            </a:r>
            <a:r>
              <a:rPr b="0" lang="pt-PT" sz="3200" spc="-1" strike="noStrike" u="sng">
                <a:solidFill>
                  <a:srgbClr val="000000"/>
                </a:solidFill>
                <a:uFillTx/>
                <a:latin typeface="Calibri"/>
              </a:rPr>
              <a:t>blocos de textos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que encham o diaposi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Frases breves, directas, e de compreensão imed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tenção às gralhas ortográfic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scolher um tipo de letra de fácil leitu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scolher cores fáceis de visualiz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17375e"/>
                </a:solidFill>
                <a:latin typeface="Century Gothic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 composição gráfica é importante para o sucesso da nossa 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As estruturas pré-definidas do PowerPoint cumprem as normas para uma boa apresentaç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Se apresentação for agradável esteticamente e de leitura acessível a todo o público, conseguimos cativar o público/ espectador e a nossa mensagem é transmitida com sucess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4:25:37Z</dcterms:created>
  <dc:creator>PC</dc:creator>
  <dc:description/>
  <dc:language>en-US</dc:language>
  <cp:lastModifiedBy>PC</cp:lastModifiedBy>
  <dcterms:modified xsi:type="dcterms:W3CDTF">2009-09-10T14:59:52Z</dcterms:modified>
  <cp:revision>9</cp:revision>
  <dc:subject/>
  <dc:title>MegaExpansão - Técnico Informático de Sistemas</dc:title>
</cp:coreProperties>
</file>